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2.jpeg" ContentType="image/jpeg"/>
  <Override PartName="/ppt/media/image10.wmf" ContentType="image/x-wmf"/>
  <Override PartName="/ppt/media/image9.wmf" ContentType="image/x-wmf"/>
  <Override PartName="/ppt/media/image8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14B0-48CA-4CA3-A5E3-52405C9F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FBE9-87B2-4746-A910-2C678B85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1738-9AF4-4E96-A090-8E24740B4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F4A8-C39A-4E5A-B0CB-E10BB5FF0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E992-21DA-441E-8EC6-A0E987E3B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054A-A524-4423-9C27-24D67931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A2D7-9C55-42BE-81F3-7F1E725D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6C11-E4FC-4EFC-9956-B48FAE2B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E2B4-5F1B-4ACD-855B-5E9BF3CC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90E5-005B-47CE-821D-4DACFF12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E282-66E3-410E-9461-F2D14EC1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B546-586C-440C-BA27-36C06D97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705A-8EB6-4A43-9433-2ACE0EBA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7A95-5FDD-492F-A39B-8E7A3878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A8B2-F533-4AF7-8E66-678C95DD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A1F9-9DCE-46BA-804A-52A1630CD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E248-5720-492C-ACBB-C14159B93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E203-2E6A-45BD-83E6-3C7D261A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E149-66DE-4ABD-A5A2-3423F26B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394B-36A1-40C3-972B-97CDF5DD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A131-259C-4D07-AF09-982DA2A5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CAB6-6D5C-4F42-89C2-8C185CA7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10F8-E470-470F-9E65-05F47472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883F-84AE-4059-BB52-873A4303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7735-880A-4303-B807-F5CB1985348B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02DE-F026-4A6A-9A54-E808C394B864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85800" y="1295280"/>
            <a:ext cx="800100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effectLst>
                  <a:outerShdw dist="107932" dir="18900000" blurRad="0" rotWithShape="0">
                    <a:srgbClr val="868686"/>
                  </a:outerShdw>
                </a:effectLst>
                <a:latin typeface="Arial Black"/>
              </a:rPr>
              <a:t>КАК ДА ОБЩУВАМЕ С ДЕЦАТА СИ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effectLst>
                <a:outerShdw dist="107932" dir="189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52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Родителите би трябвало:</a:t>
            </a:r>
            <a:endParaRPr b="1" lang="en-US" sz="4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Да умеят да изслушват децата си</a:t>
            </a:r>
            <a:endParaRPr b="1" lang="en-US" sz="36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Да приемат благосклонно всички чувства</a:t>
            </a:r>
            <a:endParaRPr b="1" lang="en-US" sz="36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Да се погрижат за добър изход от ситуацията</a:t>
            </a:r>
            <a:endParaRPr b="1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00000"/>
                </a:solidFill>
                <a:latin typeface="Times New Roman"/>
              </a:rPr>
              <a:t>Как да слушаме?</a:t>
            </a:r>
            <a:endParaRPr b="1" lang="en-US" sz="72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131" name="CJE00205" descr=""/>
          <p:cNvPicPr/>
          <p:nvPr/>
        </p:nvPicPr>
        <p:blipFill>
          <a:blip r:embed="rId1"/>
          <a:stretch/>
        </p:blipFill>
        <p:spPr>
          <a:xfrm>
            <a:off x="6172200" y="3809880"/>
            <a:ext cx="257796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2971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Times New Roman"/>
              </a:rPr>
              <a:t>Предразположете детето към споделяне</a:t>
            </a:r>
            <a:endParaRPr b="1" lang="en-US" sz="66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133" name="CJE00233" descr=""/>
          <p:cNvPicPr/>
          <p:nvPr/>
        </p:nvPicPr>
        <p:blipFill>
          <a:blip r:embed="rId1"/>
          <a:stretch/>
        </p:blipFill>
        <p:spPr>
          <a:xfrm>
            <a:off x="5842080" y="4305240"/>
            <a:ext cx="33019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00200" y="1523880"/>
            <a:ext cx="8229600" cy="373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Постарайте се да почувствате какво </a:t>
            </a:r>
            <a:br>
              <a:rPr sz="4800"/>
            </a:b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стои зад информацията, която получавате </a:t>
            </a:r>
            <a:br>
              <a:rPr sz="4800"/>
            </a:b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от детето.</a:t>
            </a: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135" name="CJU50902" descr=""/>
          <p:cNvPicPr/>
          <p:nvPr/>
        </p:nvPicPr>
        <p:blipFill>
          <a:blip r:embed="rId1"/>
          <a:stretch/>
        </p:blipFill>
        <p:spPr>
          <a:xfrm>
            <a:off x="6173640" y="4921200"/>
            <a:ext cx="297036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419076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Активно слушащите </a:t>
            </a:r>
            <a:br>
              <a:rPr sz="4800"/>
            </a:b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родители предразполагат </a:t>
            </a:r>
            <a:br>
              <a:rPr sz="4800"/>
            </a:b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към пълноценно общуване.</a:t>
            </a:r>
            <a:endParaRPr b="1" lang="en-US" sz="48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137" name="CJE00308" descr=""/>
          <p:cNvPicPr/>
          <p:nvPr/>
        </p:nvPicPr>
        <p:blipFill>
          <a:blip r:embed="rId1"/>
          <a:stretch/>
        </p:blipFill>
        <p:spPr>
          <a:xfrm>
            <a:off x="5105520" y="685800"/>
            <a:ext cx="365580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00000"/>
                </a:solidFill>
                <a:latin typeface="Times New Roman"/>
              </a:rPr>
              <a:t>Как не трябва да се говори?</a:t>
            </a:r>
            <a:endParaRPr b="1" lang="en-US" sz="72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139" name="CJE00315" descr=""/>
          <p:cNvPicPr/>
          <p:nvPr/>
        </p:nvPicPr>
        <p:blipFill>
          <a:blip r:embed="rId1"/>
          <a:stretch/>
        </p:blipFill>
        <p:spPr>
          <a:xfrm>
            <a:off x="5697360" y="3713040"/>
            <a:ext cx="344664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28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800000"/>
                </a:solidFill>
                <a:uFillTx/>
                <a:latin typeface="Times New Roman"/>
              </a:rPr>
              <a:t>Как не трябва да се говори</a:t>
            </a:r>
            <a:endParaRPr b="1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8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Избягвайте неподходящо време</a:t>
            </a:r>
            <a:endParaRPr b="1" lang="en-US" sz="36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8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Не пренебрегвайте чувствата</a:t>
            </a:r>
            <a:endParaRPr b="1" lang="en-US" sz="36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8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Не издавайте заповеди </a:t>
            </a:r>
            <a:endParaRPr b="1" lang="en-US" sz="36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8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Не смачквайте достойнството</a:t>
            </a:r>
            <a:endParaRPr b="1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142" name="CJE00315" descr=""/>
          <p:cNvPicPr/>
          <p:nvPr/>
        </p:nvPicPr>
        <p:blipFill>
          <a:blip r:embed="rId1"/>
          <a:stretch/>
        </p:blipFill>
        <p:spPr>
          <a:xfrm>
            <a:off x="6858000" y="4772160"/>
            <a:ext cx="228600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00000"/>
                </a:solidFill>
                <a:latin typeface="Times New Roman"/>
              </a:rPr>
              <a:t>Как да говорим?</a:t>
            </a:r>
            <a:endParaRPr b="1" lang="en-US" sz="72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144" name="CJE00154" descr=""/>
          <p:cNvPicPr/>
          <p:nvPr/>
        </p:nvPicPr>
        <p:blipFill>
          <a:blip r:embed="rId1"/>
          <a:stretch/>
        </p:blipFill>
        <p:spPr>
          <a:xfrm>
            <a:off x="6172200" y="3662280"/>
            <a:ext cx="20289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76360" y="761760"/>
            <a:ext cx="4343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800000"/>
                </a:solidFill>
                <a:uFillTx/>
                <a:latin typeface="Times New Roman"/>
              </a:rPr>
              <a:t>Как да говорим</a:t>
            </a: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8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Избягвайте “Ти”- изразите</a:t>
            </a:r>
            <a:endParaRPr b="1" lang="en-US" sz="48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8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Употребявайте “Аз”-изрази</a:t>
            </a:r>
            <a:endParaRPr b="1" lang="en-US" sz="48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147" name="CJE50024" descr=""/>
          <p:cNvPicPr/>
          <p:nvPr/>
        </p:nvPicPr>
        <p:blipFill>
          <a:blip r:embed="rId1"/>
          <a:stretch/>
        </p:blipFill>
        <p:spPr>
          <a:xfrm>
            <a:off x="6191280" y="4317840"/>
            <a:ext cx="29527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52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Times New Roman"/>
              </a:rPr>
              <a:t>Кой е подходящия</a:t>
            </a:r>
            <a:br>
              <a:rPr sz="6000"/>
            </a:br>
            <a:r>
              <a:rPr b="1" lang="en-US" sz="6000" spc="-1" strike="noStrike">
                <a:solidFill>
                  <a:srgbClr val="800000"/>
                </a:solidFill>
                <a:latin typeface="Times New Roman"/>
              </a:rPr>
              <a:t>тон на гласа?</a:t>
            </a:r>
            <a:endParaRPr b="1" lang="en-US" sz="60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149" name="CJE00248" descr=""/>
          <p:cNvPicPr/>
          <p:nvPr/>
        </p:nvPicPr>
        <p:blipFill>
          <a:blip r:embed="rId1"/>
          <a:stretch/>
        </p:blipFill>
        <p:spPr>
          <a:xfrm>
            <a:off x="6200640" y="3492360"/>
            <a:ext cx="2943360" cy="33656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049560" y="1143000"/>
            <a:ext cx="3603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800000"/>
                </a:solidFill>
                <a:uFillTx/>
                <a:latin typeface="Times New Roman"/>
              </a:rPr>
              <a:t>Как да говорим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00000"/>
                </a:solidFill>
                <a:latin typeface="Times New Roman"/>
              </a:rPr>
              <a:t>Какво означава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8000" spc="-1" strike="noStrike">
                <a:solidFill>
                  <a:srgbClr val="800000"/>
                </a:solidFill>
                <a:latin typeface="Times New Roman"/>
              </a:rPr>
              <a:t>“Общуване”</a:t>
            </a:r>
            <a:endParaRPr b="1" lang="en-US" sz="80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102" name="CJE00249" descr=""/>
          <p:cNvPicPr/>
          <p:nvPr/>
        </p:nvPicPr>
        <p:blipFill>
          <a:blip r:embed="rId1"/>
          <a:stretch/>
        </p:blipFill>
        <p:spPr>
          <a:xfrm>
            <a:off x="6556320" y="3965400"/>
            <a:ext cx="258768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8960" y="2666520"/>
            <a:ext cx="7467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Times New Roman"/>
              </a:rPr>
              <a:t>Неправилният тон на гласа е причина за 90 % от неприятностите в живота.</a:t>
            </a:r>
            <a:endParaRPr b="1" lang="en-US" sz="66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Times New Roman"/>
              </a:rPr>
              <a:t>Често родителите използват тон, от който се подразбира, че те не очакват сработване.</a:t>
            </a:r>
            <a:endParaRPr b="1" lang="en-US" sz="60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153" name="CJE00255" descr=""/>
          <p:cNvPicPr/>
          <p:nvPr/>
        </p:nvPicPr>
        <p:blipFill>
          <a:blip r:embed="rId1"/>
          <a:stretch/>
        </p:blipFill>
        <p:spPr>
          <a:xfrm>
            <a:off x="5972040" y="4295880"/>
            <a:ext cx="317196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Times New Roman"/>
              </a:rPr>
              <a:t>Родителите</a:t>
            </a:r>
            <a:br>
              <a:rPr sz="6000"/>
            </a:br>
            <a:r>
              <a:rPr b="1" lang="en-US" sz="6000" spc="-1" strike="noStrike">
                <a:solidFill>
                  <a:srgbClr val="800000"/>
                </a:solidFill>
                <a:latin typeface="Times New Roman"/>
              </a:rPr>
              <a:t> често използват заплашителен тон</a:t>
            </a:r>
            <a:endParaRPr b="1" lang="en-US" sz="60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155" name="CJE00258" descr=""/>
          <p:cNvPicPr/>
          <p:nvPr/>
        </p:nvPicPr>
        <p:blipFill>
          <a:blip r:embed="rId1"/>
          <a:stretch/>
        </p:blipFill>
        <p:spPr>
          <a:xfrm>
            <a:off x="3581280" y="3300480"/>
            <a:ext cx="286092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2895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Уморени родители често говорят на децата си с раздразнение. Това поражда чувства на гняв </a:t>
            </a:r>
            <a:br>
              <a:rPr sz="4400"/>
            </a:b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и злоба у тях и те </a:t>
            </a:r>
            <a:br>
              <a:rPr sz="4400"/>
            </a:b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отговарят със същия </a:t>
            </a:r>
            <a:br>
              <a:rPr sz="4400"/>
            </a:b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раздразнителен тон.</a:t>
            </a:r>
            <a:endParaRPr b="1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157" name="CJE00259" descr=""/>
          <p:cNvPicPr/>
          <p:nvPr/>
        </p:nvPicPr>
        <p:blipFill>
          <a:blip r:embed="rId1"/>
          <a:stretch/>
        </p:blipFill>
        <p:spPr>
          <a:xfrm>
            <a:off x="6611760" y="3124080"/>
            <a:ext cx="253224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2361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Times New Roman"/>
              </a:rPr>
              <a:t>Какво да направим, когато общуването</a:t>
            </a:r>
            <a:br>
              <a:rPr sz="6000"/>
            </a:br>
            <a:r>
              <a:rPr b="1" lang="en-US" sz="6000" spc="-1" strike="noStrike">
                <a:solidFill>
                  <a:srgbClr val="800000"/>
                </a:solidFill>
                <a:latin typeface="Times New Roman"/>
              </a:rPr>
              <a:t>е прекъснато?</a:t>
            </a:r>
            <a:endParaRPr b="1" lang="en-US" sz="60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159" name="CJE00266" descr=""/>
          <p:cNvPicPr/>
          <p:nvPr/>
        </p:nvPicPr>
        <p:blipFill>
          <a:blip r:embed="rId1"/>
          <a:stretch/>
        </p:blipFill>
        <p:spPr>
          <a:xfrm>
            <a:off x="5040360" y="3809880"/>
            <a:ext cx="410364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2971800"/>
            <a:ext cx="73915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Не допускайте дребните различия да ви разделят задълго, докато прерастнат в големи. Дълго съхраняваната злоба против родителите изригва като вулкан в по-късните години.</a:t>
            </a:r>
            <a:endParaRPr b="1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Times New Roman"/>
              </a:rPr>
              <a:t>Дълг на родителите </a:t>
            </a:r>
            <a:br>
              <a:rPr sz="6000"/>
            </a:br>
            <a:r>
              <a:rPr b="1" lang="en-US" sz="6000" spc="-1" strike="noStrike">
                <a:solidFill>
                  <a:srgbClr val="800000"/>
                </a:solidFill>
                <a:latin typeface="Times New Roman"/>
              </a:rPr>
              <a:t>е да хвърлят мост </a:t>
            </a:r>
            <a:br>
              <a:rPr sz="6000"/>
            </a:br>
            <a:r>
              <a:rPr b="1" lang="en-US" sz="6000" spc="-1" strike="noStrike">
                <a:solidFill>
                  <a:srgbClr val="800000"/>
                </a:solidFill>
                <a:latin typeface="Times New Roman"/>
              </a:rPr>
              <a:t>над пропастта.</a:t>
            </a:r>
            <a:endParaRPr b="1" lang="en-US" sz="60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162" name="CJE00269" descr=""/>
          <p:cNvPicPr/>
          <p:nvPr/>
        </p:nvPicPr>
        <p:blipFill>
          <a:blip r:embed="rId1"/>
          <a:stretch/>
        </p:blipFill>
        <p:spPr>
          <a:xfrm>
            <a:off x="6675480" y="4854600"/>
            <a:ext cx="246852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2514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Times New Roman"/>
              </a:rPr>
              <a:t>Чрез любезност, изразена без думи, покажете на детето, че го обичате.</a:t>
            </a:r>
            <a:endParaRPr b="1" lang="en-US" sz="60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164" name="CJE00272" descr=""/>
          <p:cNvPicPr/>
          <p:nvPr/>
        </p:nvPicPr>
        <p:blipFill>
          <a:blip r:embed="rId1"/>
          <a:stretch/>
        </p:blipFill>
        <p:spPr>
          <a:xfrm>
            <a:off x="6311880" y="4280040"/>
            <a:ext cx="283212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3276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Times New Roman"/>
              </a:rPr>
              <a:t>Добрите взаимоотношения изискват всекидневна, специална грижа.</a:t>
            </a:r>
            <a:endParaRPr b="1" lang="en-US" sz="5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166" name="CJE00282" descr=""/>
          <p:cNvPicPr/>
          <p:nvPr/>
        </p:nvPicPr>
        <p:blipFill>
          <a:blip r:embed="rId1"/>
          <a:stretch/>
        </p:blipFill>
        <p:spPr>
          <a:xfrm>
            <a:off x="6181560" y="0"/>
            <a:ext cx="296244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11430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Вие можете да имате истинска, здрава връзка със своето дете, ако общувате с него и го възприемате като личност с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права, нужди </a:t>
            </a:r>
            <a:br>
              <a:rPr sz="4800"/>
            </a:b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и стойност.</a:t>
            </a:r>
            <a:endParaRPr b="1" lang="en-US" sz="48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168" name="CJE00299" descr=""/>
          <p:cNvPicPr/>
          <p:nvPr/>
        </p:nvPicPr>
        <p:blipFill>
          <a:blip r:embed="rId1"/>
          <a:stretch/>
        </p:blipFill>
        <p:spPr>
          <a:xfrm>
            <a:off x="6291360" y="4621320"/>
            <a:ext cx="285264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2666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00000"/>
                </a:solidFill>
                <a:latin typeface="Times New Roman"/>
              </a:rPr>
              <a:t>Общуването е “Двупосочна улица”</a:t>
            </a:r>
            <a:endParaRPr b="1" lang="en-US" sz="72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104" name="DGC00008" descr=""/>
          <p:cNvPicPr/>
          <p:nvPr/>
        </p:nvPicPr>
        <p:blipFill>
          <a:blip r:embed="rId1"/>
          <a:stretch/>
        </p:blipFill>
        <p:spPr>
          <a:xfrm>
            <a:off x="6227640" y="3867120"/>
            <a:ext cx="291636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971800"/>
            <a:ext cx="9144000" cy="266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Times New Roman"/>
              </a:rPr>
              <a:t>Възприемането предшества общуването</a:t>
            </a:r>
            <a:endParaRPr b="1" lang="en-US" sz="60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106" name="CJE00118" descr=""/>
          <p:cNvPicPr/>
          <p:nvPr/>
        </p:nvPicPr>
        <p:blipFill>
          <a:blip r:embed="rId1"/>
          <a:stretch/>
        </p:blipFill>
        <p:spPr>
          <a:xfrm>
            <a:off x="3048120" y="762120"/>
            <a:ext cx="386712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Times New Roman"/>
              </a:rPr>
              <a:t>Начини за изразяване възприемането</a:t>
            </a:r>
            <a:endParaRPr b="1" lang="en-US" sz="5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Езикът на тялото</a:t>
            </a:r>
            <a:endParaRPr b="1" lang="en-US" sz="36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Ненамесване</a:t>
            </a:r>
            <a:endParaRPr b="1" lang="en-US" sz="36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Мълчаливо изслушване</a:t>
            </a:r>
            <a:endParaRPr b="1" lang="en-US" sz="36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Предразполагане на детето</a:t>
            </a:r>
            <a:endParaRPr b="1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37440" y="4216320"/>
            <a:ext cx="180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94600" y="4340160"/>
            <a:ext cx="468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83440" y="4464000"/>
            <a:ext cx="9720" cy="972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18"/>
                </a:moveTo>
                <a:lnTo>
                  <a:pt x="0" y="0"/>
                </a:lnTo>
                <a:lnTo>
                  <a:pt x="18" y="4"/>
                </a:lnTo>
                <a:lnTo>
                  <a:pt x="18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29440" y="4483080"/>
            <a:ext cx="6480" cy="6480"/>
          </a:xfrm>
          <a:custGeom>
            <a:avLst/>
            <a:gdLst/>
            <a:ahLst/>
            <a:rect l="l" t="t" r="r" b="b"/>
            <a:pathLst>
              <a:path w="12" h="11">
                <a:moveTo>
                  <a:pt x="0" y="11"/>
                </a:moveTo>
                <a:lnTo>
                  <a:pt x="6" y="0"/>
                </a:lnTo>
                <a:lnTo>
                  <a:pt x="12" y="11"/>
                </a:ln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67600" y="4503600"/>
            <a:ext cx="1800" cy="15840"/>
          </a:xfrm>
          <a:custGeom>
            <a:avLst/>
            <a:gdLst/>
            <a:ahLst/>
            <a:rect l="l" t="t" r="r" b="b"/>
            <a:pathLst>
              <a:path w="3" h="30">
                <a:moveTo>
                  <a:pt x="0" y="30"/>
                </a:moveTo>
                <a:lnTo>
                  <a:pt x="3" y="0"/>
                </a:lnTo>
                <a:lnTo>
                  <a:pt x="3" y="26"/>
                </a:lnTo>
                <a:lnTo>
                  <a:pt x="0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97680" y="4998960"/>
            <a:ext cx="14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983360" y="5072040"/>
            <a:ext cx="9720" cy="7920"/>
          </a:xfrm>
          <a:custGeom>
            <a:avLst/>
            <a:gdLst/>
            <a:ahLst/>
            <a:rect l="l" t="t" r="r" b="b"/>
            <a:pathLst>
              <a:path w="19" h="16">
                <a:moveTo>
                  <a:pt x="0" y="16"/>
                </a:moveTo>
                <a:lnTo>
                  <a:pt x="7" y="0"/>
                </a:lnTo>
                <a:lnTo>
                  <a:pt x="19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862760" y="5114880"/>
            <a:ext cx="6480" cy="19080"/>
          </a:xfrm>
          <a:custGeom>
            <a:avLst/>
            <a:gdLst/>
            <a:ahLst/>
            <a:rect l="l" t="t" r="r" b="b"/>
            <a:pathLst>
              <a:path w="11" h="34">
                <a:moveTo>
                  <a:pt x="0" y="34"/>
                </a:moveTo>
                <a:lnTo>
                  <a:pt x="11" y="0"/>
                </a:lnTo>
                <a:lnTo>
                  <a:pt x="11" y="18"/>
                </a:lnTo>
                <a:lnTo>
                  <a:pt x="0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43680" y="5138640"/>
            <a:ext cx="1800" cy="9720"/>
          </a:xfrm>
          <a:custGeom>
            <a:avLst/>
            <a:gdLst/>
            <a:ahLst/>
            <a:rect l="l" t="t" r="r" b="b"/>
            <a:pathLst>
              <a:path w="4" h="16">
                <a:moveTo>
                  <a:pt x="4" y="16"/>
                </a:moveTo>
                <a:lnTo>
                  <a:pt x="0" y="0"/>
                </a:lnTo>
                <a:lnTo>
                  <a:pt x="4" y="3"/>
                </a:lnTo>
                <a:lnTo>
                  <a:pt x="4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782200" y="5564160"/>
            <a:ext cx="28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19" name="CJE50043" descr=""/>
          <p:cNvPicPr/>
          <p:nvPr/>
        </p:nvPicPr>
        <p:blipFill>
          <a:blip r:embed="rId1"/>
          <a:stretch/>
        </p:blipFill>
        <p:spPr>
          <a:xfrm>
            <a:off x="7105680" y="2971800"/>
            <a:ext cx="203832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259092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Прекъсване на детето, даване инструкции, предлагане помощ  докато </a:t>
            </a:r>
            <a:br>
              <a:rPr sz="4800"/>
            </a:b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е заето с някаква дейност, показва липса на доверие </a:t>
            </a:r>
            <a:br>
              <a:rPr sz="4800"/>
            </a:b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в неговите възможности.</a:t>
            </a: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121" name="CJE00280" descr=""/>
          <p:cNvPicPr/>
          <p:nvPr/>
        </p:nvPicPr>
        <p:blipFill>
          <a:blip r:embed="rId1"/>
          <a:stretch/>
        </p:blipFill>
        <p:spPr>
          <a:xfrm>
            <a:off x="6923160" y="0"/>
            <a:ext cx="222084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52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Ако на детето  се позволи </a:t>
            </a:r>
            <a:br>
              <a:rPr sz="4400"/>
            </a:b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да изрази чувствата си в атмосфера на разбиране, </a:t>
            </a:r>
            <a:br>
              <a:rPr sz="4400"/>
            </a:b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то ще може по-лесно </a:t>
            </a:r>
            <a:br>
              <a:rPr sz="4400"/>
            </a:b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да разреши </a:t>
            </a:r>
            <a:br>
              <a:rPr sz="4400"/>
            </a:b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проблема си.</a:t>
            </a:r>
            <a:endParaRPr b="1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123" name="CJE00232" descr=""/>
          <p:cNvPicPr/>
          <p:nvPr/>
        </p:nvPicPr>
        <p:blipFill>
          <a:blip r:embed="rId1"/>
          <a:stretch/>
        </p:blipFill>
        <p:spPr>
          <a:xfrm>
            <a:off x="5952960" y="4203720"/>
            <a:ext cx="319104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7760" y="2209680"/>
            <a:ext cx="5562360" cy="1905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800000"/>
                </a:solidFill>
                <a:latin typeface="Times New Roman"/>
              </a:rPr>
              <a:t>Значението</a:t>
            </a:r>
            <a:r>
              <a:rPr b="1" lang="en-US" sz="7200" spc="-1" strike="noStrike">
                <a:solidFill>
                  <a:srgbClr val="800000"/>
                </a:solidFill>
                <a:latin typeface="Times New Roman"/>
              </a:rPr>
              <a:t> на детските </a:t>
            </a:r>
            <a:br>
              <a:rPr sz="7200"/>
            </a:br>
            <a:r>
              <a:rPr b="1" lang="en-US" sz="7200" spc="-1" strike="noStrike">
                <a:solidFill>
                  <a:srgbClr val="800000"/>
                </a:solidFill>
                <a:latin typeface="Times New Roman"/>
              </a:rPr>
              <a:t>чувства</a:t>
            </a:r>
            <a:endParaRPr b="1" lang="en-US" sz="72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125" name="CJU50849" descr=""/>
          <p:cNvPicPr/>
          <p:nvPr/>
        </p:nvPicPr>
        <p:blipFill>
          <a:blip r:embed="rId1"/>
          <a:stretch/>
        </p:blipFill>
        <p:spPr>
          <a:xfrm>
            <a:off x="1295280" y="3657600"/>
            <a:ext cx="25322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Times New Roman"/>
              </a:rPr>
              <a:t>Постарайте се да вникнете в детските чувства!</a:t>
            </a:r>
            <a:endParaRPr b="1" lang="en-US" sz="60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127" name="CJE00139" descr=""/>
          <p:cNvPicPr/>
          <p:nvPr/>
        </p:nvPicPr>
        <p:blipFill>
          <a:blip r:embed="rId1"/>
          <a:stretch/>
        </p:blipFill>
        <p:spPr>
          <a:xfrm>
            <a:off x="6310440" y="4199040"/>
            <a:ext cx="283356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5T14:29:56Z</dcterms:created>
  <dc:creator>Pacific Health</dc:creator>
  <dc:description/>
  <dc:language>en-US</dc:language>
  <cp:lastModifiedBy>Pacific Health</cp:lastModifiedBy>
  <dcterms:modified xsi:type="dcterms:W3CDTF">1998-12-08T04:21:56Z</dcterms:modified>
  <cp:revision>6</cp:revision>
  <dc:subject/>
  <dc:title>No Slide Title</dc:title>
</cp:coreProperties>
</file>